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DBE-C06C-4795-BD6D-3FF4E324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645-006B-46B1-83F3-8A5C7263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679-5B5A-483F-9A78-69D5769A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63A-5A25-49E0-B143-6B02A2C0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8AD-7DD8-46C4-B2A9-189EED7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C71-CA44-48D0-93A8-0BA315E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3A2-3F50-4498-8351-0B1EDF9A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684-55AD-4171-85B4-FEE6DDF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212-B2D5-4D8E-AAF5-BDE5693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830-2F38-467B-984F-BC17B0A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045-87CA-4F41-A637-2B6AD205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8B0-0BA3-4460-A2B5-259E344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898E-C2EA-4500-82A4-8EA9EA79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 GENDER EFECT SHOOTING FREE THROWS IN JUNIOR HIG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MA LAM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6f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LY DAVIS, SARAH STALLINGS,KENNA SCHWEIZER, CHELSEY RIFFEL,TARRA EDSON, CALEB HENDRICKS, CALEB MURPHY,NICK SCHISSLER, STEVEN HISHAW, AND CHRYS B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7621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pperplate Gothic Bold"/>
              </a:rPr>
              <a:t>THANKS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girls who 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 h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boys who pla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 o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ly, Tarra, Sarah, Chelsey, and Ken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b H., Chrys, Nick, Steven, and Caleb 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828800"/>
          <a:ext cx="83059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305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76520" y="4952880"/>
          <a:ext cx="5868720" cy="80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952880"/>
                    <a:ext cx="5868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OTHO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edict that the boys will shoot more accurate. Because boys are proven to be better shooters. They have better form than girls and take pressur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et all m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ather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have them shoot ten free th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 will record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828800"/>
          <a:ext cx="9524880" cy="256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95248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905120"/>
          <a:ext cx="10211040" cy="259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102110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76520"/>
          <a:ext cx="8229600" cy="211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39:18Z</dcterms:created>
  <dc:creator>USD376</dc:creator>
  <dc:description/>
  <dc:language>en-US</dc:language>
  <cp:lastModifiedBy>STERLING  USD376</cp:lastModifiedBy>
  <dcterms:modified xsi:type="dcterms:W3CDTF">2011-03-08T15:05:56Z</dcterms:modified>
  <cp:revision>8</cp:revision>
  <dc:subject/>
  <dc:title>DOES GENDER AFFECT WHAT GENDER CAN SHOOT FREE THROWS THE MOST ACCURATE?</dc:title>
</cp:coreProperties>
</file>